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EF60A-2ECD-43F6-A6A9-5C4BD44B2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C5F27-C038-40B8-9CE9-6B33A58A0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D5666-EA9F-4B47-B435-ECE6F2AFB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01DC1-F673-4FE3-81A5-0DB6E506F2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2B3DA-60B1-42BD-8C8C-AF96260447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C5326-55B5-4081-BBA5-0A81E9DA0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53223-CE95-455A-954D-C432D7B8A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4AFFB-4AA7-494C-9343-265073B90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31130-CDB7-4481-9A2F-F14FD69C5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88A69-A8BD-4210-931D-F25EB3419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6B0AA-0BC6-4F50-89B2-8328C6428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4447C-6456-45B5-80BD-46CB7C912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7F26-55E5-4026-A8C6-49D78A353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0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Learning to distinguish cognitive subprocesses based on fMRI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M. Mitc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 for Automated Learning and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ors: Luis Barrios, Rebecca Hutchinson, Marcel Just, Francisco Pereira, Jay Pujara, John Ramish, Indra Rustan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152280"/>
            <a:chOff x="0" y="0"/>
            <a:chExt cx="9144000" cy="152280"/>
          </a:xfrm>
        </p:grpSpPr>
        <p:pic>
          <p:nvPicPr>
            <p:cNvPr id="43" name="" descr=""/>
            <p:cNvPicPr/>
            <p:nvPr/>
          </p:nvPicPr>
          <p:blipFill>
            <a:blip r:embed="rId1"/>
            <a:srcRect l="0" t="0" r="18553" b="0"/>
            <a:stretch/>
          </p:blipFill>
          <p:spPr>
            <a:xfrm>
              <a:off x="3121200" y="0"/>
              <a:ext cx="60228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24080" cy="151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33520" y="28195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true that the star is above the pl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68560" y="2819520"/>
            <a:ext cx="6984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0" y="3352680"/>
            <a:ext cx="13968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fMRI(t,t+8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{Picture,Sentence}, for t=0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8280" y="1295280"/>
            <a:ext cx="7923600" cy="1663560"/>
            <a:chOff x="458280" y="1295280"/>
            <a:chExt cx="7923600" cy="1663560"/>
          </a:xfrm>
        </p:grpSpPr>
        <p:sp>
          <p:nvSpPr>
            <p:cNvPr id="151" name=""/>
            <p:cNvSpPr/>
            <p:nvPr/>
          </p:nvSpPr>
          <p:spPr>
            <a:xfrm>
              <a:off x="730440" y="1447560"/>
              <a:ext cx="1752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View Pi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Read Sent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64000" y="1447560"/>
              <a:ext cx="1752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Read Sent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View Pi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50640" y="205740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x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" y="25095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" y="24336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95880" y="24336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90920" y="250956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90920" y="24336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95680" y="25095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95680" y="24336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07520" y="1295280"/>
              <a:ext cx="148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ss Butt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11480" y="259056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 se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16600" y="259056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se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8280" y="2590560"/>
              <a:ext cx="5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24480" y="250956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12080" y="2057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095520" y="1595160"/>
              <a:ext cx="685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1"/>
          <a:srcRect l="5985" t="38277" r="7893" b="26538"/>
          <a:stretch/>
        </p:blipFill>
        <p:spPr>
          <a:xfrm>
            <a:off x="609480" y="3043080"/>
            <a:ext cx="3886200" cy="462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90720" y="3505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or sent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3429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or sent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495680"/>
            <a:ext cx="7848720" cy="2128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8 seconds of very nois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pping hemodynamic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cognitive processes occuring simultane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0" y="0"/>
            <a:ext cx="9144000" cy="152280"/>
            <a:chOff x="0" y="0"/>
            <a:chExt cx="9144000" cy="152280"/>
          </a:xfrm>
        </p:grpSpPr>
        <p:pic>
          <p:nvPicPr>
            <p:cNvPr id="173" name="" descr=""/>
            <p:cNvPicPr/>
            <p:nvPr/>
          </p:nvPicPr>
          <p:blipFill>
            <a:blip r:embed="rId2"/>
            <a:srcRect l="0" t="0" r="18553" b="0"/>
            <a:stretch/>
          </p:blipFill>
          <p:spPr>
            <a:xfrm>
              <a:off x="3121200" y="0"/>
              <a:ext cx="60228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124080" cy="15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5" name="" descr=""/>
          <p:cNvPicPr/>
          <p:nvPr/>
        </p:nvPicPr>
        <p:blipFill>
          <a:blip r:embed="rId4"/>
          <a:srcRect l="5985" t="38277" r="7893" b="26538"/>
          <a:stretch/>
        </p:blipFill>
        <p:spPr>
          <a:xfrm>
            <a:off x="4495680" y="3048120"/>
            <a:ext cx="388620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Learning task formulation: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fMRI(t, …, t+8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Picture, Sentenc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 trials (40 pictures and 40 sente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MRI(t,…t+8) = voxels x time  (~ 32,000 fea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 separate classifier for each of 13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cross-validated prediction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algorith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ussian Naïve Ba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Support Vector Machine (SV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-Nearest Neighb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ficial Neura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election/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ubset of voxels (by signal, by anatom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ubinterval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ize by averaging voxel activities over space,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10381" t="11060" r="9664" b="4695"/>
          <a:stretch/>
        </p:blipFill>
        <p:spPr>
          <a:xfrm>
            <a:off x="0" y="304920"/>
            <a:ext cx="6934320" cy="6324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019920" y="304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trother et al., 200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457200"/>
            <a:ext cx="7620120" cy="36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aussian Naïve Bayes (GNB) classifier for &lt;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class value,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feature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imate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distribution for each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s Gaussia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762120" cy="341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1914480" cy="38232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304920" y="4648320"/>
            <a:ext cx="8458200" cy="1274760"/>
            <a:chOff x="304920" y="4648320"/>
            <a:chExt cx="8458200" cy="1274760"/>
          </a:xfrm>
        </p:grpSpPr>
        <p:grpSp>
          <p:nvGrpSpPr>
            <p:cNvPr id="184" name=""/>
            <p:cNvGrpSpPr/>
            <p:nvPr/>
          </p:nvGrpSpPr>
          <p:grpSpPr>
            <a:xfrm>
              <a:off x="304920" y="4648320"/>
              <a:ext cx="8458200" cy="1274760"/>
              <a:chOff x="304920" y="4648320"/>
              <a:chExt cx="8458200" cy="1274760"/>
            </a:xfrm>
          </p:grpSpPr>
          <p:sp>
            <p:nvSpPr>
              <p:cNvPr id="185" name=""/>
              <p:cNvSpPr/>
              <p:nvPr/>
            </p:nvSpPr>
            <p:spPr>
              <a:xfrm>
                <a:off x="304920" y="4648320"/>
                <a:ext cx="845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Applying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GNB classifier to new instan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28800" y="5258160"/>
                <a:ext cx="4953240" cy="664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5943600" y="4724640"/>
              <a:ext cx="1498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"/>
          <p:cNvGrpSpPr/>
          <p:nvPr/>
        </p:nvGrpSpPr>
        <p:grpSpPr>
          <a:xfrm>
            <a:off x="6858000" y="685800"/>
            <a:ext cx="2057400" cy="1424520"/>
            <a:chOff x="6858000" y="685800"/>
            <a:chExt cx="2057400" cy="1424520"/>
          </a:xfrm>
        </p:grpSpPr>
        <p:grpSp>
          <p:nvGrpSpPr>
            <p:cNvPr id="189" name=""/>
            <p:cNvGrpSpPr/>
            <p:nvPr/>
          </p:nvGrpSpPr>
          <p:grpSpPr>
            <a:xfrm>
              <a:off x="7467480" y="1600200"/>
              <a:ext cx="533520" cy="510120"/>
              <a:chOff x="7467480" y="1600200"/>
              <a:chExt cx="533520" cy="510120"/>
            </a:xfrm>
          </p:grpSpPr>
          <p:sp>
            <p:nvSpPr>
              <p:cNvPr id="190" name=""/>
              <p:cNvSpPr/>
              <p:nvPr/>
            </p:nvSpPr>
            <p:spPr>
              <a:xfrm>
                <a:off x="7467480" y="160020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467480" y="160020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mi10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mmi10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858000" y="1600200"/>
              <a:ext cx="533520" cy="510120"/>
              <a:chOff x="6858000" y="1600200"/>
              <a:chExt cx="533520" cy="510120"/>
            </a:xfrm>
          </p:grpSpPr>
          <p:sp>
            <p:nvSpPr>
              <p:cNvPr id="193" name=""/>
              <p:cNvSpPr/>
              <p:nvPr/>
            </p:nvSpPr>
            <p:spPr>
              <a:xfrm>
                <a:off x="6858000" y="160020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858000" y="160020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mi10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mmi10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848720" y="685800"/>
              <a:ext cx="571320" cy="484920"/>
              <a:chOff x="7848720" y="685800"/>
              <a:chExt cx="571320" cy="484920"/>
            </a:xfrm>
          </p:grpSpPr>
          <p:sp>
            <p:nvSpPr>
              <p:cNvPr id="196" name=""/>
              <p:cNvSpPr/>
              <p:nvPr/>
            </p:nvSpPr>
            <p:spPr>
              <a:xfrm>
                <a:off x="7848720" y="68580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886880" y="711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mi10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381880" y="1600200"/>
              <a:ext cx="533520" cy="510120"/>
              <a:chOff x="8381880" y="1600200"/>
              <a:chExt cx="533520" cy="510120"/>
            </a:xfrm>
          </p:grpSpPr>
          <p:sp>
            <p:nvSpPr>
              <p:cNvPr id="199" name=""/>
              <p:cNvSpPr/>
              <p:nvPr/>
            </p:nvSpPr>
            <p:spPr>
              <a:xfrm>
                <a:off x="8381880" y="160020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381880" y="160020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mi10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mmi10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H="1">
              <a:off x="7162920" y="11430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695720" y="1143000"/>
              <a:ext cx="3812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77320" y="114300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24680" y="1600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2647800" y="3467160"/>
            <a:ext cx="1494000" cy="3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upport Vector Machines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Vapnik et al. 1992]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for learning classifiers corresponding to linear decision surface in high dimensional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s maximum margin decision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in many high-dimensional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arra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rcRect l="10235" t="7333" r="31871" b="10383"/>
          <a:stretch/>
        </p:blipFill>
        <p:spPr>
          <a:xfrm>
            <a:off x="2647800" y="0"/>
            <a:ext cx="628668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upport Vector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achines (SVM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we distinguis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rie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gnitive processes using fMR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0"/>
            <a:ext cx="9144000" cy="152280"/>
            <a:chOff x="0" y="0"/>
            <a:chExt cx="9144000" cy="152280"/>
          </a:xfrm>
        </p:grpSpPr>
        <p:pic>
          <p:nvPicPr>
            <p:cNvPr id="47" name="" descr=""/>
            <p:cNvPicPr/>
            <p:nvPr/>
          </p:nvPicPr>
          <p:blipFill>
            <a:blip r:embed="rId1"/>
            <a:srcRect l="0" t="0" r="18553" b="0"/>
            <a:stretch/>
          </p:blipFill>
          <p:spPr>
            <a:xfrm>
              <a:off x="3121200" y="0"/>
              <a:ext cx="60228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24080" cy="15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"/>
          <p:cNvGrpSpPr/>
          <p:nvPr/>
        </p:nvGrpSpPr>
        <p:grpSpPr>
          <a:xfrm>
            <a:off x="1523880" y="2971800"/>
            <a:ext cx="5715000" cy="1709280"/>
            <a:chOff x="1523880" y="2971800"/>
            <a:chExt cx="5715000" cy="17092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rcRect l="12840" t="19277" r="64539" b="67097"/>
            <a:stretch/>
          </p:blipFill>
          <p:spPr>
            <a:xfrm>
              <a:off x="1523880" y="4267080"/>
              <a:ext cx="5715000" cy="41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4"/>
            <a:srcRect l="7893" t="26538" r="5985" b="38277"/>
            <a:stretch/>
          </p:blipFill>
          <p:spPr>
            <a:xfrm>
              <a:off x="3581280" y="3885840"/>
              <a:ext cx="1676160" cy="32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flipV="1">
              <a:off x="4419360" y="37335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7760" y="297180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ds sentence ambiguous or no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/>
          <a:srcRect l="12810" t="81133" r="64669" b="0"/>
          <a:stretch/>
        </p:blipFill>
        <p:spPr>
          <a:xfrm>
            <a:off x="1492200" y="4660920"/>
            <a:ext cx="56898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12573" t="5811" r="7894" b="8097"/>
          <a:stretch/>
        </p:blipFill>
        <p:spPr>
          <a:xfrm>
            <a:off x="990720" y="0"/>
            <a:ext cx="8153280" cy="64771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28600" y="380880"/>
            <a:ext cx="3962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inear SV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9778" t="22414" r="13501" b="25480"/>
          <a:stretch/>
        </p:blipFill>
        <p:spPr>
          <a:xfrm>
            <a:off x="0" y="131760"/>
            <a:ext cx="91440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rcRect l="8480" t="11906" r="29533" b="10804"/>
          <a:stretch/>
        </p:blipFill>
        <p:spPr>
          <a:xfrm>
            <a:off x="2057400" y="0"/>
            <a:ext cx="7086600" cy="6781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28600" y="380880"/>
            <a:ext cx="3962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ccepting noise in SVM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Non-linear Support Vector Machin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applying kernel functions to data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to projecting data into higher dimensional space, then finding linear decision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kernel complexity (H) to minimize ‘structural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11211" t="16251" r="3455" b="59096"/>
          <a:stretch/>
        </p:blipFill>
        <p:spPr>
          <a:xfrm>
            <a:off x="1219320" y="4191120"/>
            <a:ext cx="6476760" cy="761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828800" y="53341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on train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5181480"/>
            <a:ext cx="2819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nce term related to kern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 and number of training exampl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50292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error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066680" y="480024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1460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6171840" y="4952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enerative vs. Discriminative Classifier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rcRect l="25834" t="72598" r="26471" b="7317"/>
          <a:stretch/>
        </p:blipFill>
        <p:spPr>
          <a:xfrm>
            <a:off x="3390840" y="5156280"/>
            <a:ext cx="4191120" cy="1025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762120" y="1143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learn                   , equivalently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rcRect l="38845" t="23337" r="40347" b="64727"/>
          <a:stretch/>
        </p:blipFill>
        <p:spPr>
          <a:xfrm>
            <a:off x="2666880" y="1066680"/>
            <a:ext cx="1828800" cy="6098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rcRect l="42311" t="41250" r="42948" b="48304"/>
          <a:stretch/>
        </p:blipFill>
        <p:spPr>
          <a:xfrm>
            <a:off x="6629400" y="1143000"/>
            <a:ext cx="1295280" cy="533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85800" y="2146320"/>
            <a:ext cx="7772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iminative classifi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             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ve classifi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y u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rcRect l="42311" t="41250" r="42948" b="48304"/>
          <a:stretch/>
        </p:blipFill>
        <p:spPr>
          <a:xfrm>
            <a:off x="2031840" y="2768760"/>
            <a:ext cx="1295640" cy="533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rcRect l="41443" t="59163" r="42948" b="31885"/>
          <a:stretch/>
        </p:blipFill>
        <p:spPr>
          <a:xfrm>
            <a:off x="2133720" y="4724280"/>
            <a:ext cx="13716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enerative vs. Discriminative Classifier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80880" y="892080"/>
          <a:ext cx="8153640" cy="5232600"/>
        </p:xfrm>
        <a:graphic>
          <a:graphicData uri="http://schemas.openxmlformats.org/drawingml/2006/table">
            <a:tbl>
              <a:tblPr/>
              <a:tblGrid>
                <a:gridCol w="3124440"/>
                <a:gridCol w="2514600"/>
                <a:gridCol w="251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rimin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they estimate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C|da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data|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M’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ficial Neural N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ïve Bayes, Bayesian net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ness to modeling err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ly more rob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rob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on for estimating parame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ize classification err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ize data likelih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NB vs. Logistic regression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[Ng, Jordan NIPS03]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ian naïve Bay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P(X|C) as a class-conditional Ga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surface: hyper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arning converges in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O(log(n)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examples, where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is number of data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 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P(C|X) as a logisti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surface: hyper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arning converges in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O(n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symptotic error less or same as G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ccuracy of Trained Pict/Sent Classifier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330200"/>
            <a:ext cx="899172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leave one out cross valid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ess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%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M: 91% mean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subject accuracies ranged from 75% to 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NB: 84% mean accur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election step important f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0,000 voxels x 16 time samples = 160,000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only 240 voxels x 16 time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3758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an We Train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Subject-Indep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Classifiers?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6102" t="21834" r="20396" b="4710"/>
          <a:stretch/>
        </p:blipFill>
        <p:spPr>
          <a:xfrm>
            <a:off x="0" y="1219320"/>
            <a:ext cx="5275440" cy="39542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2"/>
          <a:srcRect l="52091" t="30649" r="1617" b="21071"/>
          <a:stretch/>
        </p:blipFill>
        <p:spPr>
          <a:xfrm>
            <a:off x="4202280" y="2489040"/>
            <a:ext cx="4767120" cy="37306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raining Cross-Subject Classifiers for Picture/Sentenc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105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ac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fine “supervoxels” based on anatomically defined brain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 to seven brain region supervo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pervoxel 100’s to 1000’s of vo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on n-1 subjects, test on nth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75% prediction accuracy over subjects outside training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91% avg. single-subject accur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ly better than 50% guessing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9144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[Wang, Hutchinson, Mitchell. NIPS0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57600" y="20574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cide whether consis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classify/trac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verlap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9144000" cy="152280"/>
            <a:chOff x="0" y="0"/>
            <a:chExt cx="9144000" cy="152280"/>
          </a:xfrm>
        </p:grpSpPr>
        <p:pic>
          <p:nvPicPr>
            <p:cNvPr id="58" name="" descr=""/>
            <p:cNvPicPr/>
            <p:nvPr/>
          </p:nvPicPr>
          <p:blipFill>
            <a:blip r:embed="rId1"/>
            <a:srcRect l="0" t="0" r="18553" b="0"/>
            <a:stretch/>
          </p:blipFill>
          <p:spPr>
            <a:xfrm>
              <a:off x="3121200" y="0"/>
              <a:ext cx="60228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24080" cy="15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533520" y="4876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served fM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6324480"/>
            <a:ext cx="5867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rcRect l="12840" t="19277" r="64539" b="67097"/>
          <a:stretch/>
        </p:blipFill>
        <p:spPr>
          <a:xfrm>
            <a:off x="2095560" y="4559400"/>
            <a:ext cx="5715000" cy="414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rcRect l="12810" t="81133" r="64669" b="0"/>
          <a:stretch/>
        </p:blipFill>
        <p:spPr>
          <a:xfrm>
            <a:off x="2050920" y="5334120"/>
            <a:ext cx="5689800" cy="304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5377800">
            <a:off x="2958840" y="3288960"/>
            <a:ext cx="304560" cy="2108160"/>
          </a:xfrm>
          <a:custGeom>
            <a:avLst/>
            <a:gdLst>
              <a:gd name="textAreaLeft" fmla="*/ 194760 w 304560"/>
              <a:gd name="textAreaRight" fmla="*/ 304920 w 30456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377800">
            <a:off x="4482720" y="412740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377800">
            <a:off x="4883040" y="2584440"/>
            <a:ext cx="304560" cy="306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781680" y="5943600"/>
            <a:ext cx="0" cy="380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0199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served button p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71880" y="1676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86240" y="198108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236232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1676520"/>
            <a:ext cx="60984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377800">
            <a:off x="2958840" y="3288960"/>
            <a:ext cx="304560" cy="2108160"/>
          </a:xfrm>
          <a:custGeom>
            <a:avLst/>
            <a:gdLst>
              <a:gd name="textAreaLeft" fmla="*/ 194760 w 304560"/>
              <a:gd name="textAreaRight" fmla="*/ 304920 w 30456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1981080"/>
            <a:ext cx="774720" cy="299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377800">
            <a:off x="4883040" y="2584440"/>
            <a:ext cx="304560" cy="306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1371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ad sent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1676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ew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2362320"/>
            <a:ext cx="927360" cy="33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2362320"/>
            <a:ext cx="45720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5564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udy 2: Semantic Word Categori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784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catego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wel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28800" y="838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rancisco Pereir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0" y="0"/>
            <a:ext cx="9144000" cy="152280"/>
            <a:chOff x="0" y="0"/>
            <a:chExt cx="9144000" cy="15228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rcRect l="0" t="0" r="18553" b="0"/>
            <a:stretch/>
          </p:blipFill>
          <p:spPr>
            <a:xfrm>
              <a:off x="3121200" y="0"/>
              <a:ext cx="60228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24080" cy="15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"/>
          <p:cNvSpPr/>
          <p:nvPr/>
        </p:nvSpPr>
        <p:spPr>
          <a:xfrm>
            <a:off x="4572000" y="1600200"/>
            <a:ext cx="367812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setu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blocks per 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lock begins by presenting category name, then 20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 indicates whether word fits 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Learning task formul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fMRI(t, …, t+3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dCat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MRI(t,…t+32) represented by mean fMRI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 on presentation 1, test on presentation 2 (and vice ver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algorith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Nearest Neighbor, based on spatial correlation [after Haxb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election/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most ‘object selective’ voxels, based on multiple regression on boxcars convolved with gamma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voxels in ventral temporal cortex produced greatest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rcRect l="2666" t="32601" r="2666" b="22587"/>
          <a:stretch/>
        </p:blipFill>
        <p:spPr>
          <a:xfrm>
            <a:off x="1447920" y="3124080"/>
            <a:ext cx="601956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sults predicting word semantic category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pairwise prediction accuracy averaged over 8 su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ral temporal: 77%  (low: 57%, high 88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ietal: 7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al: 6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guess: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1294920"/>
            <a:ext cx="3962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ean Activation per Voxel          for Word Categori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4687" t="10420" r="9374" b="6251"/>
          <a:stretch/>
        </p:blipFill>
        <p:spPr>
          <a:xfrm>
            <a:off x="4262400" y="0"/>
            <a:ext cx="471492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9810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well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11430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5410080"/>
            <a:ext cx="2209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e horizontal slice, ventral temporal 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Pereira, et al 20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0481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(fMRI | Word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066680" y="1219320"/>
            <a:ext cx="672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rcRect l="0" t="18251" r="5810" b="40670"/>
          <a:stretch/>
        </p:blipFill>
        <p:spPr>
          <a:xfrm>
            <a:off x="0" y="2895480"/>
            <a:ext cx="9144000" cy="29908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457200" y="457200"/>
            <a:ext cx="7924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ot of single-voxel classification accura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ussian naïve Bayes classifier (yellow and red are most predictive).  Images from three different subjects show similar regions with highly informative vox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58672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8660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ingle-voxel GNB classification error vs.     p value from T-statistic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390840" cy="29433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3429000" cy="29764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8600" y="47242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=10^6, P &lt; 0.0001, Error = 0.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46483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=10^3, P &lt; 0.0001, Error =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648320" y="4229280"/>
            <a:ext cx="2057400" cy="12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200400" y="403848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54864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oss validated prediction error is unbiased estimate of the Bayes optimal error – the area under the inter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Question: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different people’s brains ‘encode’ semantic categories using the same spatial patter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43200" y="34290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419112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there are cross-subject regularities in “distances” between categories, as measured by classifier error r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601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ix-Category Study: Pairwise Classification Errors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(ventral temporal cortex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28600" y="1600200"/>
          <a:ext cx="8763120" cy="4756320"/>
        </p:xfrm>
        <a:graphic>
          <a:graphicData uri="http://schemas.openxmlformats.org/drawingml/2006/table">
            <a:tbl>
              <a:tblPr/>
              <a:tblGrid>
                <a:gridCol w="1095480"/>
                <a:gridCol w="1022400"/>
                <a:gridCol w="1533600"/>
                <a:gridCol w="1241280"/>
                <a:gridCol w="1314360"/>
                <a:gridCol w="1168560"/>
                <a:gridCol w="138744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ge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ell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dg Pa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55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5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0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55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0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5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5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5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0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0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0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55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5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209680" y="1143000"/>
            <a:ext cx="1600200" cy="5715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76920" y="990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 Worst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* B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15200" y="1143000"/>
            <a:ext cx="1600200" cy="57150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rcRect l="30643" t="24773" r="8954" b="6055"/>
          <a:stretch/>
        </p:blipFill>
        <p:spPr>
          <a:xfrm>
            <a:off x="5578560" y="0"/>
            <a:ext cx="3565440" cy="3886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rcRect l="10683" t="23257" r="9925" b="36328"/>
          <a:stretch/>
        </p:blipFill>
        <p:spPr>
          <a:xfrm>
            <a:off x="0" y="3832200"/>
            <a:ext cx="9144000" cy="3025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228600" y="762120"/>
            <a:ext cx="5410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 classification of semantic categories of photograp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Carlson, et al.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. Cog. Neurosc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003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ox &amp; Savoy, Neuroimage 2003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38080"/>
            <a:ext cx="205740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VM and LDA classifiers for semantic photo categ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ers applied to same subject a week later were equally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24372" t="13166" r="7056" b="9385"/>
          <a:stretch/>
        </p:blipFill>
        <p:spPr>
          <a:xfrm>
            <a:off x="1905120" y="762120"/>
            <a:ext cx="7238880" cy="59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13688" t="38309" r="8188" b="17519"/>
          <a:stretch/>
        </p:blipFill>
        <p:spPr>
          <a:xfrm>
            <a:off x="870120" y="2048040"/>
            <a:ext cx="7619760" cy="3130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371600" y="228600"/>
            <a:ext cx="626112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ntal Algebra Ta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Anderson, Qin, &amp; Sohn, 2002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9000" y="3381480"/>
            <a:ext cx="30492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87480" y="328140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81480" y="3324240"/>
            <a:ext cx="233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75040" y="3324240"/>
            <a:ext cx="420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9600" y="3292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75040" y="326556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essons Learne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1127160"/>
            <a:ext cx="80010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one can train machine learning classifiers to distinguish a variety of cognitive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d Picture vs.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mbiguous sentence vs. unamb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oun vs.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ouns about “tools” vs. “building pa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s to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 vs. false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vs. affirmative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ich Machine Learning Method Works Best?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B and SVM tend to outperform K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election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2819520"/>
            <a:ext cx="8805960" cy="3736800"/>
            <a:chOff x="0" y="2819520"/>
            <a:chExt cx="8805960" cy="3736800"/>
          </a:xfrm>
        </p:grpSpPr>
        <p:pic>
          <p:nvPicPr>
            <p:cNvPr id="300" name="" descr=""/>
            <p:cNvPicPr/>
            <p:nvPr/>
          </p:nvPicPr>
          <p:blipFill>
            <a:blip r:embed="rId1"/>
            <a:srcRect l="5810" t="20441" r="14290" b="34336"/>
            <a:stretch/>
          </p:blipFill>
          <p:spPr>
            <a:xfrm>
              <a:off x="0" y="2819520"/>
              <a:ext cx="880596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1752480" y="4140000"/>
              <a:ext cx="152424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52480" y="4978440"/>
              <a:ext cx="152424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52480" y="5740200"/>
              <a:ext cx="152424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52480" y="3378240"/>
              <a:ext cx="152424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7400" y="3378240"/>
              <a:ext cx="6094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57400" y="4216320"/>
              <a:ext cx="6094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57400" y="4978440"/>
              <a:ext cx="6094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57400" y="5816520"/>
              <a:ext cx="6094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905120" y="22096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per-subject classifica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43400" y="3657600"/>
            <a:ext cx="685800" cy="3808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5257800"/>
            <a:ext cx="685800" cy="3808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4495680"/>
            <a:ext cx="685800" cy="3812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81280" y="6095880"/>
            <a:ext cx="685800" cy="3812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8920" y="2133720"/>
            <a:ext cx="881388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Which Feature Selection Works Best?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 wisdom: pick feature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best distinguish between classes A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sort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mutual information, choose the top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3733920"/>
            <a:ext cx="8763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pri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strategy work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95280" y="10666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sh to learn F:  &lt;x1,x2,…xn&gt;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A,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0" y="0"/>
            <a:ext cx="9144000" cy="152280"/>
            <a:chOff x="0" y="0"/>
            <a:chExt cx="9144000" cy="152280"/>
          </a:xfrm>
        </p:grpSpPr>
        <p:pic>
          <p:nvPicPr>
            <p:cNvPr id="320" name="" descr=""/>
            <p:cNvPicPr/>
            <p:nvPr/>
          </p:nvPicPr>
          <p:blipFill>
            <a:blip r:embed="rId1"/>
            <a:srcRect l="0" t="0" r="18553" b="0"/>
            <a:stretch/>
          </p:blipFill>
          <p:spPr>
            <a:xfrm>
              <a:off x="3121200" y="0"/>
              <a:ext cx="60228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24080" cy="151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he learning setting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362320" y="2286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5638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24480" y="2286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80240" y="19051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67840" y="19051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ass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16560" y="609588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t / Fix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3" idx="6"/>
            <a:endCxn id="325" idx="2"/>
          </p:cNvCxnSpPr>
          <p:nvPr/>
        </p:nvCxnSpPr>
        <p:spPr>
          <a:xfrm>
            <a:off x="2819520" y="2514240"/>
            <a:ext cx="3505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0" name=""/>
          <p:cNvCxnSpPr>
            <a:stCxn id="323" idx="5"/>
            <a:endCxn id="324" idx="1"/>
          </p:cNvCxnSpPr>
          <p:nvPr/>
        </p:nvCxnSpPr>
        <p:spPr>
          <a:xfrm>
            <a:off x="2752560" y="2676600"/>
            <a:ext cx="1658160" cy="302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1" name=""/>
          <p:cNvCxnSpPr>
            <a:stCxn id="324" idx="7"/>
            <a:endCxn id="325" idx="3"/>
          </p:cNvCxnSpPr>
          <p:nvPr/>
        </p:nvCxnSpPr>
        <p:spPr>
          <a:xfrm flipV="1">
            <a:off x="4734000" y="2676240"/>
            <a:ext cx="1658160" cy="302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3420360" y="251460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xel discrimin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71640" y="396252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xel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81520" y="396252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xel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NB Classifier Errors: Feature Selec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238880" y="5064120"/>
            <a:ext cx="16002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21200" y="5064120"/>
            <a:ext cx="14176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5064120"/>
            <a:ext cx="14014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5064120"/>
            <a:ext cx="12956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95280" y="5064120"/>
            <a:ext cx="1828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ROI Active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238880" y="453240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21200" y="4532400"/>
            <a:ext cx="14176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19720" y="4532400"/>
            <a:ext cx="14014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4532400"/>
            <a:ext cx="12956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4532400"/>
            <a:ext cx="1828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ROI 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38880" y="39988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821200" y="3998880"/>
            <a:ext cx="1417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19720" y="3998880"/>
            <a:ext cx="1401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3998880"/>
            <a:ext cx="1295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95280" y="3998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38880" y="3298680"/>
            <a:ext cx="1600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21200" y="3298680"/>
            <a:ext cx="14176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.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19720" y="3298680"/>
            <a:ext cx="14014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.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3298680"/>
            <a:ext cx="1295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.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95280" y="3298680"/>
            <a:ext cx="1828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scriminate target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238880" y="276696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21200" y="2766960"/>
            <a:ext cx="14176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19720" y="2766960"/>
            <a:ext cx="14014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2766960"/>
            <a:ext cx="12956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95280" y="2766960"/>
            <a:ext cx="1828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238880" y="1676520"/>
            <a:ext cx="16002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Categ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21200" y="1676520"/>
            <a:ext cx="141768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uns vs. Ver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19720" y="1676520"/>
            <a:ext cx="140148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ctic Ambig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124080" y="1676520"/>
            <a:ext cx="129564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1676520"/>
            <a:ext cx="18288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95280" y="167652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95280" y="276696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95280" y="329868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95280" y="399888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95280" y="45324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50641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95280" y="580536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5280" y="1676520"/>
            <a:ext cx="0" cy="412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24080" y="1676520"/>
            <a:ext cx="0" cy="41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1676520"/>
            <a:ext cx="0" cy="41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21200" y="1676520"/>
            <a:ext cx="0" cy="41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38880" y="1676520"/>
            <a:ext cx="0" cy="41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839080" y="1676520"/>
            <a:ext cx="0" cy="412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11430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MRI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-1026360" y="3387240"/>
            <a:ext cx="35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eature selectio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rcRect l="12841" t="10079" r="7931" b="10844"/>
          <a:stretch/>
        </p:blipFill>
        <p:spPr>
          <a:xfrm>
            <a:off x="914400" y="228600"/>
            <a:ext cx="7086600" cy="645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2563920"/>
            <a:ext cx="237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68760" y="2606760"/>
            <a:ext cx="180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73160" y="4967280"/>
            <a:ext cx="2247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47880" y="2897280"/>
            <a:ext cx="81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73160" y="3179880"/>
            <a:ext cx="774720" cy="156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666880" y="3179880"/>
            <a:ext cx="609840" cy="156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00600" y="2057400"/>
            <a:ext cx="4343400" cy="44499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learn f: X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or P(Y|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examples 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where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       signal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P(S|Y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       nois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noise with zero signal 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3049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ero Signal” learning setti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073160" y="5484960"/>
            <a:ext cx="22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signal (fix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680" y="1784520"/>
            <a:ext cx="23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1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14600" y="1784520"/>
            <a:ext cx="19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2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91440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eatures based on discrim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r discrim(Z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895480" y="1219320"/>
            <a:ext cx="6096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4920" y="3049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ero Signal” learning 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rcRect l="5812" t="33777" r="8961" b="17679"/>
          <a:stretch/>
        </p:blipFill>
        <p:spPr>
          <a:xfrm>
            <a:off x="228600" y="1676520"/>
            <a:ext cx="2695680" cy="2819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276720" y="1219320"/>
            <a:ext cx="5867280" cy="40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j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feature selection using discrim(Z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ll improve relative to discrim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features 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training examples de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/noise ratio de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ion of relevant features de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657600" y="20574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cide whether consis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an we classify/trac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verlap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0" y="0"/>
            <a:ext cx="9144000" cy="152280"/>
            <a:chOff x="0" y="0"/>
            <a:chExt cx="9144000" cy="152280"/>
          </a:xfrm>
        </p:grpSpPr>
        <p:pic>
          <p:nvPicPr>
            <p:cNvPr id="401" name="" descr=""/>
            <p:cNvPicPr/>
            <p:nvPr/>
          </p:nvPicPr>
          <p:blipFill>
            <a:blip r:embed="rId1"/>
            <a:srcRect l="0" t="0" r="18553" b="0"/>
            <a:stretch/>
          </p:blipFill>
          <p:spPr>
            <a:xfrm>
              <a:off x="3121200" y="0"/>
              <a:ext cx="60228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24080" cy="15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"/>
          <p:cNvSpPr/>
          <p:nvPr/>
        </p:nvSpPr>
        <p:spPr>
          <a:xfrm>
            <a:off x="533520" y="4876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served fM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57400" y="6324480"/>
            <a:ext cx="5867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3"/>
          <a:srcRect l="12840" t="19277" r="64539" b="67097"/>
          <a:stretch/>
        </p:blipFill>
        <p:spPr>
          <a:xfrm>
            <a:off x="2095560" y="4559400"/>
            <a:ext cx="5715000" cy="4143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rcRect l="12810" t="81133" r="64669" b="0"/>
          <a:stretch/>
        </p:blipFill>
        <p:spPr>
          <a:xfrm>
            <a:off x="2050920" y="5334120"/>
            <a:ext cx="5689800" cy="3045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 rot="5377800">
            <a:off x="2958840" y="3288960"/>
            <a:ext cx="304560" cy="2108160"/>
          </a:xfrm>
          <a:custGeom>
            <a:avLst/>
            <a:gdLst>
              <a:gd name="textAreaLeft" fmla="*/ 194760 w 304560"/>
              <a:gd name="textAreaRight" fmla="*/ 304920 w 30456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5377800">
            <a:off x="4482720" y="412740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377800">
            <a:off x="4883040" y="2584440"/>
            <a:ext cx="304560" cy="306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781680" y="5943600"/>
            <a:ext cx="0" cy="380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8600" y="60199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served button p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171880" y="1676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486240" y="198108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81280" y="236232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38280" y="1676520"/>
            <a:ext cx="60984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5377800">
            <a:off x="2958840" y="3288960"/>
            <a:ext cx="304560" cy="2108160"/>
          </a:xfrm>
          <a:custGeom>
            <a:avLst/>
            <a:gdLst>
              <a:gd name="textAreaLeft" fmla="*/ 194760 w 304560"/>
              <a:gd name="textAreaRight" fmla="*/ 304920 w 30456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09880" y="1981080"/>
            <a:ext cx="774720" cy="299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5377800">
            <a:off x="4883040" y="2584440"/>
            <a:ext cx="304560" cy="306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05120" y="1371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ad sent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76720" y="1676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ew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67280" y="2362320"/>
            <a:ext cx="927360" cy="33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2362320"/>
            <a:ext cx="45720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57200" y="990720"/>
            <a:ext cx="7315200" cy="1602720"/>
            <a:chOff x="457200" y="990720"/>
            <a:chExt cx="7315200" cy="1602720"/>
          </a:xfrm>
        </p:grpSpPr>
        <p:grpSp>
          <p:nvGrpSpPr>
            <p:cNvPr id="424" name=""/>
            <p:cNvGrpSpPr/>
            <p:nvPr/>
          </p:nvGrpSpPr>
          <p:grpSpPr>
            <a:xfrm>
              <a:off x="457200" y="990720"/>
              <a:ext cx="7315200" cy="939240"/>
              <a:chOff x="457200" y="990720"/>
              <a:chExt cx="7315200" cy="939240"/>
            </a:xfrm>
          </p:grpSpPr>
          <p:sp>
            <p:nvSpPr>
              <p:cNvPr id="425" name=""/>
              <p:cNvSpPr/>
              <p:nvPr/>
            </p:nvSpPr>
            <p:spPr>
              <a:xfrm>
                <a:off x="457200" y="990720"/>
                <a:ext cx="182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put stimuli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6" name=""/>
              <p:cNvGrpSpPr/>
              <p:nvPr/>
            </p:nvGrpSpPr>
            <p:grpSpPr>
              <a:xfrm>
                <a:off x="1981080" y="1136160"/>
                <a:ext cx="5791320" cy="793800"/>
                <a:chOff x="1981080" y="1136160"/>
                <a:chExt cx="5791320" cy="79380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1981080" y="1143000"/>
                  <a:ext cx="57913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2184480" y="11365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 flipV="1">
                  <a:off x="3485880" y="1136160"/>
                  <a:ext cx="6120" cy="793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0" name=""/>
            <p:cNvSpPr/>
            <p:nvPr/>
          </p:nvSpPr>
          <p:spPr>
            <a:xfrm>
              <a:off x="3276720" y="21337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ayes Net related State-Space Model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7621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MM’s, DBNs, etc. e.g., [Ghahramani, 200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rcRect l="13230" t="14072" r="6950" b="46010"/>
          <a:stretch/>
        </p:blipFill>
        <p:spPr>
          <a:xfrm>
            <a:off x="1981080" y="2624040"/>
            <a:ext cx="5639040" cy="31672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52280" y="259092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 subprocesses / state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-914400" y="2997360"/>
            <a:ext cx="11214000" cy="3573720"/>
            <a:chOff x="-914400" y="2997360"/>
            <a:chExt cx="11214000" cy="3573720"/>
          </a:xfrm>
        </p:grpSpPr>
        <p:sp>
          <p:nvSpPr>
            <p:cNvPr id="436" name=""/>
            <p:cNvSpPr/>
            <p:nvPr/>
          </p:nvSpPr>
          <p:spPr>
            <a:xfrm>
              <a:off x="380880" y="5105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MR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971800" y="4724280"/>
              <a:ext cx="1600200" cy="6098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58000" y="4724280"/>
              <a:ext cx="1600200" cy="6098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76920" y="4724280"/>
              <a:ext cx="1600200" cy="6098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66680" y="4648320"/>
              <a:ext cx="1600200" cy="6094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971800" y="4724280"/>
              <a:ext cx="3505320" cy="6858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76920" y="4724280"/>
              <a:ext cx="3504960" cy="6858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-914400" y="4648320"/>
              <a:ext cx="3505320" cy="6858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71800" y="3886200"/>
              <a:ext cx="1523880" cy="13716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52880" y="3886200"/>
              <a:ext cx="1524240" cy="13716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58000" y="3809880"/>
              <a:ext cx="1523880" cy="13716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71800" y="3886200"/>
              <a:ext cx="3429000" cy="13716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29200" y="3886200"/>
              <a:ext cx="3429000" cy="13716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58000" y="3809880"/>
              <a:ext cx="3429000" cy="13716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971800" y="3048120"/>
              <a:ext cx="1600200" cy="22096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52880" y="3048120"/>
              <a:ext cx="1600200" cy="22096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34320" y="3048120"/>
              <a:ext cx="1600200" cy="22096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00600" y="617220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e  [Hojen-Sorensen et al, NIPS99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959200" y="2997360"/>
              <a:ext cx="3365280" cy="21841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52880" y="3048120"/>
              <a:ext cx="3365640" cy="21841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34320" y="3048120"/>
              <a:ext cx="3365280" cy="21841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28713" t="12301" r="23958" b="7687"/>
          <a:stretch/>
        </p:blipFill>
        <p:spPr>
          <a:xfrm>
            <a:off x="1257480" y="762120"/>
            <a:ext cx="4962240" cy="6095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410080" y="9144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Anderson, Qin, &amp; Sohn, 2002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152280"/>
            <a:ext cx="62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ty Predicted by ACT-R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1752480"/>
            <a:ext cx="3733920" cy="1448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ypical ACT-R ru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  “_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= b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 “ _ = &lt;b &lt;inv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 a&gt;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352680" y="2514600"/>
            <a:ext cx="18288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724280" y="2895480"/>
            <a:ext cx="4572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idden Process Model 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cess defin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D: &lt;comprehend sentenc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HDR duration: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Distribution: [ W(v,t)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Z of data: set of process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e max likelihood { &lt;Process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tart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ata likelihood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5943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ve model for classifying overlapping hidden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rcRect l="15256" t="35801" r="11018" b="23283"/>
          <a:stretch/>
        </p:blipFill>
        <p:spPr>
          <a:xfrm>
            <a:off x="1219320" y="4419720"/>
            <a:ext cx="6629400" cy="12189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5562720" y="228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with Rebecca Hutchinso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assifying Processes with HPM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-228600" y="1447920"/>
            <a:ext cx="9372240" cy="2590200"/>
            <a:chOff x="-228600" y="1447920"/>
            <a:chExt cx="9372240" cy="2590200"/>
          </a:xfrm>
        </p:grpSpPr>
        <p:pic>
          <p:nvPicPr>
            <p:cNvPr id="464" name="" descr=""/>
            <p:cNvPicPr/>
            <p:nvPr/>
          </p:nvPicPr>
          <p:blipFill>
            <a:blip r:embed="rId1"/>
            <a:srcRect l="9202" t="21157" r="6018" b="11537"/>
            <a:stretch/>
          </p:blipFill>
          <p:spPr>
            <a:xfrm>
              <a:off x="-228600" y="1447920"/>
              <a:ext cx="9372240" cy="25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-137160" y="1940040"/>
              <a:ext cx="546480" cy="57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152280" y="10666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time kn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8600" y="43434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time unknown: consider candidate times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rcRect l="8000" t="32934" r="7557" b="17664"/>
          <a:stretch/>
        </p:blipFill>
        <p:spPr>
          <a:xfrm>
            <a:off x="685800" y="4876920"/>
            <a:ext cx="7238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NB classifier is a special case of HPM class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3240" y="1143000"/>
            <a:ext cx="175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View Pi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ad Sen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06800" y="1143000"/>
            <a:ext cx="175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ad Sen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iew Pi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93440" y="17524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" y="2205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212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38680" y="212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133720" y="22050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212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2205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038480" y="212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50320" y="99072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Bu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754280" y="22860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s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9400" y="22860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s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80" y="228600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67280" y="22096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554880" y="1752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638320" y="12906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rcRect l="5985" t="38277" r="7893" b="26538"/>
          <a:stretch/>
        </p:blipFill>
        <p:spPr>
          <a:xfrm>
            <a:off x="228600" y="2666880"/>
            <a:ext cx="3886200" cy="4622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9907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or sent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419720" y="3124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or sent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0"/>
            <a:ext cx="9144000" cy="152280"/>
            <a:chOff x="0" y="0"/>
            <a:chExt cx="9144000" cy="152280"/>
          </a:xfrm>
        </p:grpSpPr>
        <p:pic>
          <p:nvPicPr>
            <p:cNvPr id="491" name="" descr=""/>
            <p:cNvPicPr/>
            <p:nvPr/>
          </p:nvPicPr>
          <p:blipFill>
            <a:blip r:embed="rId2"/>
            <a:srcRect l="0" t="0" r="18553" b="0"/>
            <a:stretch/>
          </p:blipFill>
          <p:spPr>
            <a:xfrm>
              <a:off x="3121200" y="0"/>
              <a:ext cx="60228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124080" cy="15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3" name="" descr=""/>
          <p:cNvPicPr/>
          <p:nvPr/>
        </p:nvPicPr>
        <p:blipFill>
          <a:blip r:embed="rId4"/>
          <a:srcRect l="5985" t="38277" r="7893" b="26538"/>
          <a:stretch/>
        </p:blipFill>
        <p:spPr>
          <a:xfrm>
            <a:off x="4038480" y="2666880"/>
            <a:ext cx="3886200" cy="46224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7317000" y="23623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s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772400" y="2133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N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0" y="4495680"/>
            <a:ext cx="9753480" cy="1526760"/>
            <a:chOff x="0" y="4495680"/>
            <a:chExt cx="9753480" cy="1526760"/>
          </a:xfrm>
        </p:grpSpPr>
        <p:pic>
          <p:nvPicPr>
            <p:cNvPr id="498" name="" descr=""/>
            <p:cNvPicPr/>
            <p:nvPr/>
          </p:nvPicPr>
          <p:blipFill>
            <a:blip r:embed="rId5"/>
            <a:srcRect l="5985" t="38277" r="7893" b="26538"/>
            <a:stretch/>
          </p:blipFill>
          <p:spPr>
            <a:xfrm>
              <a:off x="228600" y="4495680"/>
              <a:ext cx="5715000" cy="4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990720" y="50292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icture or sentenc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578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icture or sentenc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1" name="" descr=""/>
            <p:cNvPicPr/>
            <p:nvPr/>
          </p:nvPicPr>
          <p:blipFill>
            <a:blip r:embed="rId6"/>
            <a:srcRect l="5985" t="38277" r="7893" b="26538"/>
            <a:stretch/>
          </p:blipFill>
          <p:spPr>
            <a:xfrm>
              <a:off x="4114800" y="4876920"/>
              <a:ext cx="563868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0" y="50292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P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earning HPM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n start ti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st squares regression, eg. see Dale[HMB, 199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known start ti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P(S|Y,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’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g 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implement M step with gradient asc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rcRect l="50636" t="43401" r="16605" b="29498"/>
          <a:stretch/>
        </p:blipFill>
        <p:spPr>
          <a:xfrm>
            <a:off x="3962520" y="4876920"/>
            <a:ext cx="25146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75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OLS learns 2 processes, overlapping in time, 1 voxel, zero noise, start times known, 10 trial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585200" y="1319040"/>
            <a:ext cx="955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Estimate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855720" y="1576440"/>
            <a:ext cx="2317680" cy="184464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870120" y="4195800"/>
            <a:ext cx="2317680" cy="184464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4060800" y="1590840"/>
            <a:ext cx="2317680" cy="18460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4"/>
          <a:stretch/>
        </p:blipFill>
        <p:spPr>
          <a:xfrm>
            <a:off x="4059360" y="4203720"/>
            <a:ext cx="2317680" cy="184464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7539120" y="1674720"/>
            <a:ext cx="96660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-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7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7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3.5108e-1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13560" y="4129200"/>
            <a:ext cx="93528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-4.7535e-1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43600" y="457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Indra Rustand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" y="1066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3809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ed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57600" y="1143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process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33920" y="3733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process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75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OLS learns 2 processes, overlapping in time, 1 voxel, noise 0.2, start times known, 10 trial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585200" y="1319040"/>
            <a:ext cx="955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Estimate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855720" y="1576440"/>
            <a:ext cx="2317680" cy="18446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870120" y="4195800"/>
            <a:ext cx="2317680" cy="18446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4060800" y="1590840"/>
            <a:ext cx="2317680" cy="18460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4"/>
          <a:stretch/>
        </p:blipFill>
        <p:spPr>
          <a:xfrm>
            <a:off x="4059360" y="4203720"/>
            <a:ext cx="2317680" cy="184464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7586640" y="1639800"/>
            <a:ext cx="81756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005495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3244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4884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8331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9987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8655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556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2363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-0.05059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599240" y="4140360"/>
            <a:ext cx="80352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-0.01737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3643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3613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485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6014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4616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5413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4746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0.5241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588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Indra Rustand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" y="1066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3809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ed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657600" y="1143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process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733920" y="3733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process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762120" y="762120"/>
            <a:ext cx="7543800" cy="2971440"/>
            <a:chOff x="762120" y="762120"/>
            <a:chExt cx="7543800" cy="2971440"/>
          </a:xfrm>
        </p:grpSpPr>
        <p:pic>
          <p:nvPicPr>
            <p:cNvPr id="533" name="" descr=""/>
            <p:cNvPicPr/>
            <p:nvPr/>
          </p:nvPicPr>
          <p:blipFill>
            <a:blip r:embed="rId1"/>
            <a:srcRect l="10541" t="24109" r="8696" b="4754"/>
            <a:stretch/>
          </p:blipFill>
          <p:spPr>
            <a:xfrm>
              <a:off x="762120" y="1302120"/>
              <a:ext cx="7543800" cy="243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672560" y="762120"/>
              <a:ext cx="542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ase II, Words every 3 seconds.                                                                      Mean LFEF, subj 0817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304920" y="304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Noun and Verb impulse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rcRect l="29288" t="61065" r="42520" b="7553"/>
          <a:stretch/>
        </p:blipFill>
        <p:spPr>
          <a:xfrm>
            <a:off x="2057400" y="3962520"/>
            <a:ext cx="1905120" cy="16970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1447920" y="571500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 impulse response estimated from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76920" y="571500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 impulse response “ground truth” from non-overlapping stimu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3"/>
          <a:srcRect l="40517" t="30707" r="30566" b="7100"/>
          <a:stretch/>
        </p:blipFill>
        <p:spPr>
          <a:xfrm>
            <a:off x="5257800" y="388620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5943600" y="152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Indra Rustand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657600" y="20574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cide whether consis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classify/trac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verlap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0" y="0"/>
            <a:ext cx="9144000" cy="152280"/>
            <a:chOff x="0" y="0"/>
            <a:chExt cx="9144000" cy="152280"/>
          </a:xfrm>
        </p:grpSpPr>
        <p:pic>
          <p:nvPicPr>
            <p:cNvPr id="544" name="" descr=""/>
            <p:cNvPicPr/>
            <p:nvPr/>
          </p:nvPicPr>
          <p:blipFill>
            <a:blip r:embed="rId1"/>
            <a:srcRect l="0" t="0" r="18553" b="0"/>
            <a:stretch/>
          </p:blipFill>
          <p:spPr>
            <a:xfrm>
              <a:off x="3121200" y="0"/>
              <a:ext cx="60228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24080" cy="15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6" name=""/>
          <p:cNvSpPr/>
          <p:nvPr/>
        </p:nvSpPr>
        <p:spPr>
          <a:xfrm>
            <a:off x="533520" y="4876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served fM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57400" y="6324480"/>
            <a:ext cx="5867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3"/>
          <a:srcRect l="12840" t="19277" r="64539" b="67097"/>
          <a:stretch/>
        </p:blipFill>
        <p:spPr>
          <a:xfrm>
            <a:off x="2095560" y="4559400"/>
            <a:ext cx="5715000" cy="4143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4"/>
          <a:srcRect l="12810" t="81133" r="64669" b="0"/>
          <a:stretch/>
        </p:blipFill>
        <p:spPr>
          <a:xfrm>
            <a:off x="2050920" y="5334120"/>
            <a:ext cx="5689800" cy="30456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 rot="5377800">
            <a:off x="2958840" y="3288960"/>
            <a:ext cx="304560" cy="2108160"/>
          </a:xfrm>
          <a:custGeom>
            <a:avLst/>
            <a:gdLst>
              <a:gd name="textAreaLeft" fmla="*/ 194760 w 304560"/>
              <a:gd name="textAreaRight" fmla="*/ 304920 w 30456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5377800">
            <a:off x="4482720" y="412740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5377800">
            <a:off x="4883040" y="2584440"/>
            <a:ext cx="304560" cy="306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781680" y="5943600"/>
            <a:ext cx="0" cy="380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28600" y="60199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served button p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71880" y="1676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486240" y="198108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236232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38280" y="1676520"/>
            <a:ext cx="60984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5377800">
            <a:off x="2958840" y="3288960"/>
            <a:ext cx="304560" cy="2108160"/>
          </a:xfrm>
          <a:custGeom>
            <a:avLst/>
            <a:gdLst>
              <a:gd name="textAreaLeft" fmla="*/ 194760 w 304560"/>
              <a:gd name="textAreaRight" fmla="*/ 304920 w 30456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809880" y="1981080"/>
            <a:ext cx="774720" cy="299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5377800">
            <a:off x="4883040" y="2584440"/>
            <a:ext cx="304560" cy="306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05120" y="1371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ad sent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76720" y="1676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ew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867280" y="2362320"/>
            <a:ext cx="927360" cy="33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0" y="2362320"/>
            <a:ext cx="45720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22860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rned HPM with 3 processes (S,P,D), and R=13sec (TR=500msec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5486400" cy="297000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228600" y="3349800"/>
            <a:ext cx="5486400" cy="29764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819520" cy="244800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6095880" y="5105520"/>
            <a:ext cx="2819520" cy="10666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5"/>
          <a:stretch/>
        </p:blipFill>
        <p:spPr>
          <a:xfrm>
            <a:off x="6095880" y="3581280"/>
            <a:ext cx="2819520" cy="137952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1004760" y="1447920"/>
            <a:ext cx="9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562040" y="1319040"/>
            <a:ext cx="838440" cy="5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957400" y="1314000"/>
            <a:ext cx="828720" cy="4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05320" y="1371600"/>
            <a:ext cx="8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71720" y="118116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14680" y="11192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600200" y="1066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971800" y="1066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71600" y="1447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76040" y="4572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155440" y="144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23140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231760" y="5334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01120" y="27432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351600" y="5562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43280" y="6299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start time picked to be trailStart+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990720" y="3962520"/>
            <a:ext cx="3476160" cy="587880"/>
            <a:chOff x="990720" y="3962520"/>
            <a:chExt cx="3476160" cy="587880"/>
          </a:xfrm>
        </p:grpSpPr>
        <p:sp>
          <p:nvSpPr>
            <p:cNvPr id="589" name=""/>
            <p:cNvSpPr/>
            <p:nvPr/>
          </p:nvSpPr>
          <p:spPr>
            <a:xfrm>
              <a:off x="990720" y="4343400"/>
              <a:ext cx="90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1547640" y="4214160"/>
              <a:ext cx="838080" cy="4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2943000" y="4209840"/>
              <a:ext cx="828360" cy="4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490920" y="4267080"/>
              <a:ext cx="85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057320" y="407664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00280" y="401472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85800" y="396252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957400" y="396252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1633320" y="4243320"/>
              <a:ext cx="900000" cy="307080"/>
              <a:chOff x="1633320" y="4243320"/>
              <a:chExt cx="900000" cy="307080"/>
            </a:xfrm>
          </p:grpSpPr>
          <p:sp>
            <p:nvSpPr>
              <p:cNvPr id="598" name=""/>
              <p:cNvSpPr/>
              <p:nvPr/>
            </p:nvSpPr>
            <p:spPr>
              <a:xfrm>
                <a:off x="1633320" y="4495320"/>
                <a:ext cx="9000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895040" y="4243320"/>
                <a:ext cx="456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ff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3566880" y="4238640"/>
              <a:ext cx="900000" cy="307080"/>
              <a:chOff x="3566880" y="4238640"/>
              <a:chExt cx="900000" cy="307080"/>
            </a:xfrm>
          </p:grpSpPr>
          <p:sp>
            <p:nvSpPr>
              <p:cNvPr id="601" name=""/>
              <p:cNvSpPr/>
              <p:nvPr/>
            </p:nvSpPr>
            <p:spPr>
              <a:xfrm>
                <a:off x="3566880" y="4490280"/>
                <a:ext cx="9000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828600" y="4238640"/>
                <a:ext cx="456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ff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3" name=""/>
          <p:cNvSpPr/>
          <p:nvPr/>
        </p:nvSpPr>
        <p:spPr>
          <a:xfrm>
            <a:off x="3505320" y="13716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itial results: HPM’s on PictSen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chooses start time = 18 for hidden D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accuracy for heldout PS/SP trials = 15/20 = 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dout classification accuracy same for 2 process (P,S) and 3 process (P,S,D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likelihood over heldout data slightly better for 3 process (P,S,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152280" y="0"/>
            <a:ext cx="9601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276720" y="5110200"/>
            <a:ext cx="2666880" cy="1747800"/>
            <a:chOff x="3276720" y="5110200"/>
            <a:chExt cx="2666880" cy="17478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rcRect l="21668" t="47337" r="41643" b="22000"/>
            <a:stretch/>
          </p:blipFill>
          <p:spPr>
            <a:xfrm>
              <a:off x="3276720" y="5110200"/>
              <a:ext cx="266688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594760" y="5258520"/>
              <a:ext cx="341640" cy="10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2"/>
          <a:srcRect l="24482" t="31542" r="21614" b="19759"/>
          <a:stretch/>
        </p:blipFill>
        <p:spPr>
          <a:xfrm>
            <a:off x="6156360" y="3160800"/>
            <a:ext cx="2206440" cy="1449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rcRect l="31251" t="21735" r="26979" b="39868"/>
          <a:stretch/>
        </p:blipFill>
        <p:spPr>
          <a:xfrm>
            <a:off x="927000" y="3154320"/>
            <a:ext cx="2014560" cy="1447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rcRect l="29479" t="18133" r="28750" b="44003"/>
          <a:stretch/>
        </p:blipFill>
        <p:spPr>
          <a:xfrm>
            <a:off x="3483000" y="3159000"/>
            <a:ext cx="2041560" cy="1446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3299400">
            <a:off x="5310720" y="5776200"/>
            <a:ext cx="27000" cy="118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4336920"/>
            <a:ext cx="1450800" cy="1679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010120" y="4422600"/>
            <a:ext cx="2028960" cy="1214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99120" y="4464000"/>
            <a:ext cx="155520" cy="1231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33800" y="5996160"/>
            <a:ext cx="38592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7160" y="714240"/>
            <a:ext cx="24368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nderson, Qi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Sohn, 200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rcRect l="30418" t="19403" r="20103" b="27476"/>
          <a:stretch/>
        </p:blipFill>
        <p:spPr>
          <a:xfrm>
            <a:off x="3220920" y="0"/>
            <a:ext cx="3065760" cy="2633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30600" y="1454040"/>
            <a:ext cx="2352960" cy="2073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292640" y="1479600"/>
            <a:ext cx="660240" cy="1914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44720" y="546120"/>
            <a:ext cx="2054160" cy="2787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6"/>
          <a:srcRect l="28713" t="12301" r="23958" b="7687"/>
          <a:stretch/>
        </p:blipFill>
        <p:spPr>
          <a:xfrm>
            <a:off x="855720" y="355680"/>
            <a:ext cx="1662120" cy="2041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52760" y="1244520"/>
            <a:ext cx="622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lson, et al.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. Cog. Neurosc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x, D.D. and R.L. Savoy, Functional magnetic resonance imaging (fMRI) ``brain reading'': detecting and classifying distributed patterns of fMRI activity in human visual cortex.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NeuroImag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Volume 19, Pages 261--270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jems, U., L. Hansen, J. Anderson, S. Frutiger, S. Muley, J. Sidtis, D. Rottenberg, and S. C. Strother. The quantitative evalutation of functional neuroimaging experiments: mutual information learning curves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uroIma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5, pp. 772--786,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tchell, T.M., R. Hutchinson, M. Just, S. R. Niculescu, F. Pereira, X. Wang, Classifying Instantaneous Cognitive States from fMRI Data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oceedings of the 2003 Americal Medical Informatics Association Annual Sympos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Washington D.C., November 200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tchell, T.M., R. Hutchinson, S. R. Niculescu, F. Pereira, X. Wang, , M. Just, S. Newman.  Learning to Decode Cognitive States from Brain Images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chine Learn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other S.C., J. Anderson, L.Hansen, U.Kjems, R.Kustra, J. Siditis, S. Frutiger, S. Muley, S. LaConte, and D. Rottenberg.   The quantitative evaluation of functional neuroimaging experiments: The NPAIRS data analysis framework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uroIma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5:747-771,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ng, X., R. Hutchinson, and T.~M. Mitchell.   Training fMRI Classifiers to Detect Cognitive States across Multiple Human Subjects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oceedings of the 2003 Conference on Neural Information Processing Syste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ancouver, December 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classifiers for short cognitive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er learning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across multiple su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ly classifying multiple overlapping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Model and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den Processes and 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0" y="0"/>
            <a:ext cx="9144000" cy="152280"/>
            <a:chOff x="0" y="0"/>
            <a:chExt cx="9144000" cy="15228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rcRect l="0" t="0" r="18553" b="0"/>
            <a:stretch/>
          </p:blipFill>
          <p:spPr>
            <a:xfrm>
              <a:off x="3121200" y="0"/>
              <a:ext cx="60228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24080" cy="151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raining “Virtual Sensors” of Cognitive Process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62040"/>
            <a:ext cx="874872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classifiers of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MRI(t, t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gnitive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fMRI(t, t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{ReadSentence, ViewPictur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set of cognitiv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time interval [t, t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9144000" cy="152280"/>
            <a:chOff x="0" y="0"/>
            <a:chExt cx="9144000" cy="15228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rcRect l="0" t="0" r="18553" b="0"/>
            <a:stretch/>
          </p:blipFill>
          <p:spPr>
            <a:xfrm>
              <a:off x="3121200" y="0"/>
              <a:ext cx="60228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24080" cy="151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tudy 1: Pictures and Sentenc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411444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answers whether sentence describes picture by pressing but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subjects, TR=500m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2520" y="2057400"/>
            <a:ext cx="176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View Pi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Read Sen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56080" y="2057400"/>
            <a:ext cx="176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ead Sen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View Pi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17520" y="26668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x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124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3124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3124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52800" y="190512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s Bu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08240" y="320040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s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3360" y="320040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 s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0880" y="32004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3124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00200" y="26668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095520" y="22096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9144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from [Keller et al., 200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0"/>
            <a:ext cx="9144000" cy="152280"/>
            <a:chOff x="0" y="0"/>
            <a:chExt cx="9144000" cy="1522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0" t="0" r="18553" b="0"/>
            <a:stretch/>
          </p:blipFill>
          <p:spPr>
            <a:xfrm>
              <a:off x="3121200" y="0"/>
              <a:ext cx="60228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24080" cy="151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4:39:59Z</dcterms:created>
  <dc:creator>Tom M. Mitchell</dc:creator>
  <dc:description/>
  <dc:language>en-US</dc:language>
  <cp:lastModifiedBy>Tom M. Mitchell</cp:lastModifiedBy>
  <dcterms:modified xsi:type="dcterms:W3CDTF">2004-08-17T18:08:14Z</dcterms:modified>
  <cp:revision>832</cp:revision>
  <dc:subject/>
  <dc:title>PowerPoint Presentation</dc:title>
</cp:coreProperties>
</file>